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6171-01DA-4B19-B08B-0020685E2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BC3E-69E7-4467-8935-DD0C557D6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93C7-6610-48F3-890B-CCAD27ED6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CB54-5C1F-455E-9B17-95D96E544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3BDF-5CAB-4A91-9713-0743AEED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30E-F3D9-43ED-8B64-8BC5EC46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B387-3D27-49B6-B900-9FE728E6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B277-6F98-450B-810A-71E7AFC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E462-256E-4976-BA37-40E8C79E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56C0-9924-4A38-A882-5E589D2F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9BDE-DCBB-4782-BC46-E50DD105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E7D5-C3A5-4F2D-9B49-27C9E829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057E-380E-4D4D-86D3-4D24D89B8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Times New Roman"/>
              </a:rPr>
              <a:t>Feuerwehr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Wie sie leibt und leb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105264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unse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8099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3514" r="0" b="0"/>
          <a:stretch/>
        </p:blipFill>
        <p:spPr>
          <a:xfrm>
            <a:off x="2268360" y="476280"/>
            <a:ext cx="47628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71640" y="2060280"/>
            <a:ext cx="74880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ch ja unser neues Auto, ideal für die Stadt man kommt überall hin. Klein wendig und zuverlässig wie wi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136000" cy="60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ir achten auf eine lückenlose Einsatzdoku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Also Leute wir machen jetzt ein Foto als Erinneru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Feuerwehrleute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Wir haben jetzt keine Z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ch bin hier der Ch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Feuerwehrleute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Scheiß Diktat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Maul halten und aufstellen und jetzt cheeeeesseee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3534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ch bei der ersten Hilfe bewegen wir uns auf einen hohen Nivea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Sanitäter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ch glaub den ist nicht mehr zu helf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gal Wiederbelebung fortsetzen bis der Notarzt da ist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Sanitäter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K Ch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806436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147160" cy="53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Es sind in letzter Zeit falsche Feuerwehrleute unterwegs!</a:t>
            </a:r>
            <a:br>
              <a:rPr sz="4400"/>
            </a:b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Nachfolgendes Bild zeigt wie diese zu erkennen si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497800" cy="5386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419640" y="2924280"/>
            <a:ext cx="1800000" cy="1081080"/>
          </a:xfrm>
          <a:prstGeom prst="ellipse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chtig ist das schnelle und sichere erreichen des Einsatzortes</a:t>
            </a: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lorian 12/1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: "Leitstelle für Florian 12/1!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Leitstelle: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"Hier Leitstelle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lorian 12/1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Wir können leider unseren Einsatz nicht beginnen, da wir einen Defekt am Fahrzeug haben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Leitstelle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Was ist denn defekt?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lorian 12/1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Unser linker Außenspiegel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Leitstelle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Na, dann können Sie doch noch zum Einsatz fahren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lorian 12/1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"Leider nicht - unser Auto liegt drau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!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Leitstelle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Ihr ward wohl wieder zu Einsatzgei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849780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32000" y="54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nser Helm Modell Türk-deuts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73454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Habt ihr auch die Schlauchbrücken ordentlich verleg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euerwehrmann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Klar Chef, du kennst uns d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Leider deswegen frag ich ja weil ich Weiß das ihr Pfuscher se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Feuerwehrmann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Glaub es uns doch es ist aller sauber verlegt, auch für den Z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Wie für den Zug? Ich schau mir das lieber mal 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610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Hast du ach was unter die Stützen gelegt das die Straße nicht beschädigt wi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Fahrer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Natürl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Kommandant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Ein Unterlegholz ist aber noch am Au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4f319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f319b"/>
                </a:solidFill>
                <a:latin typeface="Arial"/>
              </a:rPr>
              <a:t>Fahrer: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ch hab was anders untergele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960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Wichtig ist auch die Ruhe zu bewah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09560" y="1600200"/>
            <a:ext cx="7723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8:13Z</dcterms:created>
  <dc:creator>CS_GAST1</dc:creator>
  <dc:description/>
  <dc:language>en-US</dc:language>
  <cp:lastModifiedBy>CS_GAST1</cp:lastModifiedBy>
  <dcterms:modified xsi:type="dcterms:W3CDTF">2005-12-06T06:34:27Z</dcterms:modified>
  <cp:revision>8</cp:revision>
  <dc:subject/>
  <dc:title>Feuerwehr</dc:title>
</cp:coreProperties>
</file>