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DA7-258B-4548-9103-1AFD9DA5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617-AB7A-4C78-ACDC-E68C99B4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E5D-A166-4949-9A5F-7B39E069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3D4-3FDB-493A-8070-C0A65707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EB3-614D-466E-B18E-FED93610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73C-0D57-4827-8ED2-7DFA0E43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7C0-8C3E-4E77-8256-89F8102B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8CD-EF22-43C6-874C-6815B6A2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648-1A11-4F15-A8DA-41AA0BA4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75B-242F-4915-801B-2F12BEA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CB0-8CB6-4013-9E14-CE29108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EB6-F74A-4A52-B094-568B83D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8648-831C-4229-979F-345AFD6C4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Times New Roman"/>
              </a:rPr>
              <a:t>Feuerweh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e sie leibt und l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105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uns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8099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13514" r="0" b="0"/>
          <a:stretch/>
        </p:blipFill>
        <p:spPr>
          <a:xfrm>
            <a:off x="2268360" y="476280"/>
            <a:ext cx="47628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71640" y="2060280"/>
            <a:ext cx="7488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ch ja unser neues Auto, ideal für die Stadt man kommt überall hin. Klein wendig und zuverlässig wie w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ir achten auf eine lückenlose Einsatzdok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lso Leute wir machen jetzt ein Foto als Erinn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Feuerwehrleute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ir haben jetzt keine 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ch bin hier der Ch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Feuerwehrleute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cheiß Dikta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Maul halten und aufstellen und jetzt cheeeeesseee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353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ch bei der ersten Hilfe bewegen wir uns auf einen hohen Nivea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Sanitäter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glaub den ist nicht mehr zu hel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gal Wiederbelebung fortsetzen bis der Notarzt da is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Sanitäter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K Ch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06436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1471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s sind in letzter Zeit falsche Feuerwehrleute unterwegs!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Nachfolgendes Bild zeigt wie diese zu erkennen s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497800" cy="5386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19640" y="2924280"/>
            <a:ext cx="1800000" cy="10810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chtig ist das schnelle und sichere erreichen des Einsatzortes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lorian 12/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"Leitstelle für Florian 12/1!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Leitstelle: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Hier Leitstelle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lorian 12/1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Wir können leider unseren Einsatz nicht beginnen, da wir einen Defekt am Fahrzeug haben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Leitstelle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Was ist denn defekt?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lorian 12/1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Unser linker Außenspiegel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Leitstelle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Na, dann können Sie doch noch zum Einsatz fahren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lorian 12/1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Leider nicht - unser Auto liegt dra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Leitstelle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hr ward wohl wieder zu Einsatzge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ser Helm Modell Türk-deut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345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Habt ihr auch die Schlauchbrücken ordentlich verleg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euerwehrmann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Klar Chef, du kennst uns 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eider deswegen frag ich ja weil ich Weiß das ihr Pfuscher s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euerwehrmann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Glaub es uns doch es ist aller sauber verlegt, auch für den 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e für den Zug? Ich schau mir das lieber mal 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Hast du ach was unter die Stützen gelegt das die Straße nicht beschädigt w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Fahrer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atür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Ein Unterlegholz ist aber noch am A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Fahrer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ch hab was anders untergele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96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ichtig ist auch die Ruhe zu bewah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9560" y="1600200"/>
            <a:ext cx="772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8:13Z</dcterms:created>
  <dc:creator>CS_GAST1</dc:creator>
  <dc:description/>
  <dc:language>en-US</dc:language>
  <cp:lastModifiedBy>CS_GAST1</cp:lastModifiedBy>
  <dcterms:modified xsi:type="dcterms:W3CDTF">2005-12-06T06:34:27Z</dcterms:modified>
  <cp:revision>8</cp:revision>
  <dc:subject/>
  <dc:title>Feuerwehr</dc:title>
</cp:coreProperties>
</file>